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B04B-0181-4813-A867-A8BE3628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606-737C-4209-90EC-707DD700F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DD9-09FC-4AFF-9C11-D64BB1BF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0DB6-AA51-4F1B-AC37-36E9BE73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C5D-289F-4983-9708-FFBC8235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A50-69D0-47AF-A357-ED44A452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8C6-747C-4668-BA4F-C13EA085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614-1B90-484F-BA30-64AFA778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ED95-D10C-45F1-A28C-6F67FD59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F97-3B62-440C-A135-6343E75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DC6E-96E1-4345-9AB6-D7BED546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29A-0C33-4E62-9CFE-A26609A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36DD-327F-4BD0-92FC-20096B6C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6EC3-F3F1-45FB-87AB-72D05A96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3E6D-ED4C-4D7F-953A-B398CFE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81A-DABE-4D6A-BE19-1449262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855A-536F-4EFB-9688-DB3490FA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B613-70A4-4A46-B4BC-AF31F90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1AF-1FDB-4A00-B34D-D8D13E90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09D-EE6D-4905-B5B6-7B308721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FC7-7C41-4BD7-9251-255234A9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792-35F6-4BAA-9C20-918DC8D7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FA2-F7B9-4889-B10C-33E24EDD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712-3078-4DE0-B925-E0AE222A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5DD-56FA-4CAD-A5EB-6554B64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2B7-EE35-4D40-BD77-0FE3D03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6FF-3B69-434D-A2DB-4B607AE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3B3-582B-4294-A546-64EC558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B43-2A07-444C-B3A2-A6002A2E9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36FB-78FF-420E-8CBE-A98D59FF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41680"/>
                <a:gridCol w="274320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ais qu’ elles sont nombreuses. Je connais  un programme TV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à propos de l’activite des programmes et des gens de la T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 aident les gens à apprendre des choses sur la France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lques informations sur les programme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22T15:35:32Z</dcterms:modified>
  <cp:revision>21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